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5F10-480D-40D4-890C-107AD1DFA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un.ca/biology/scarr/Arginine_nutritional_mutan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an conclude that a disease is hereditary if there is a family history, i.e. a genetic link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D40-1C23-4128-8DDF-6E8C6DB6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F4C-34C6-48DD-9CEB-B98E86D1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DEF-D5BD-47E1-8AC0-48208CA9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04D-1AD6-4FD2-A8C4-4B83A230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088-FDF2-4E79-82DD-7A9B9650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492-0C32-4241-B2D9-CD34011E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BE0-C93D-4F21-835A-00830D55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8AB-D115-4CC9-A4F2-DA151590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269-8174-4D30-834A-3BDCC16E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207-7D50-4D45-AAA0-EBB6A36E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0C1-6787-4E4A-BF75-935FCFA8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176-E6F6-462E-9C81-2E8F8223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AB25-DF7E-4A08-9553-FD01F7B17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hyperlink" Target="http://wps.prenhall.com/wps/media/objects/1552/1589869/web_tut/21_04/21_04_01a.sw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’s work resulted in the 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experiments (excellent slideshow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(narrated animation…a bit d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ps.prenhall.com/wps/media/objects/1552/1589869/web_tut/21_04/21_04_01a.s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urine to turn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kap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breaking down alka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born error of metabolism”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connection between DNA (genes) &amp;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arrod didn’t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 (19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red bread mould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rospora cra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“mutant”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 tested with intermed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3-11-18T18:27:01Z</dcterms:modified>
  <cp:revision>118</cp:revision>
  <dc:subject/>
  <dc:title>Molecular Genetics</dc:title>
</cp:coreProperties>
</file>